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E50-3036-4BB7-8CCA-5EAF5422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99A-313A-468B-B2AF-F1B87798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4AC-432E-41CD-91EF-E717513B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C9D-7E4F-4B20-AD26-99527A30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C096-F110-42D5-9669-044D6D83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8BFB-E5AD-4F73-9BA2-1A0ECCFE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EBCA-35F6-4301-8613-56DCB7C6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FD87-BA38-42F6-BC25-ABB02B2C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EF9-5826-43EA-A31A-E3DEADC2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C4BA-0873-452A-A498-A1E787C4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C366-01ED-4F4C-9767-6CE4538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B89-D065-4726-851F-4F790FAB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D04B-F9E6-43E5-A423-5305782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7BBB-6ED6-4BB1-9026-CCAC628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6B85-E21D-48F8-8152-D41089C7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940-0950-4237-A70A-91A0A96A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EBA8-DE6C-4C9B-AEA8-E44738FF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0701-5213-43AB-AC0D-4A4C71CF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4103-E138-4F95-9DA5-6C9843C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F220-B910-4F39-929A-E7398B7D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FE3A-6608-48FB-8168-C4F51EA9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A5DC-34A2-4203-9DA0-E901C5D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6F9-4918-425C-A69E-78C47DA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0952-AE64-47D2-8DDC-ADE9765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44D2-FF08-4A0B-A523-6C2CEC55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B941-A9D5-4F9B-B360-1960C45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C619-481E-4E5E-A427-15BFF3E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5A1E-A922-4713-BF98-EF73D91B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E84A-2EA0-4F26-BDF4-9B50DA10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D804-9697-435C-B53E-60833600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509C-56F6-4CE4-9650-142262CA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5416-9998-429F-86F9-18BBBC02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4F1B-3EAE-412A-AA3D-8096905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342-4D4F-4833-98EA-8F856039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4189-C521-4F80-A3C9-E08CA4E7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BE16-362C-4297-B725-5FAA592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FD02-3B4D-4A3E-874B-975B549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7C03-8E42-44A2-A203-F90F37C0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2A577-5065-4ABA-B89C-13E72322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7340-8CA2-4210-A2E1-7EFA93C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DE74-42E2-40F7-A61C-6BEF7C69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82B0-2981-4958-A243-7213C953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B122-A8AA-4B56-9E35-3AE95A41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7E49-F4C4-45A7-8F76-8E6E77CE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341-44CF-45FE-AB3E-22204A6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782D-5F71-4A8F-8922-2915021B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ADD23-5798-443C-BB2C-9F5ACAC1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7CB9-A632-4655-9DA8-B26B42C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0A14-D2D8-474C-990B-D69322FE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CC00-FC6B-4B27-B6F3-C7256D4F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0F0B-B105-4FD5-84EC-0B2C093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F70E-6BA0-4FD6-A125-D1A34C6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214F6-8E1E-4198-AFBF-BE53741B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1E6CF-199E-490F-A368-B3130A1C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5DF2D-B1CD-4262-9AD1-8C7750E0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10B-D025-4F79-9486-22F36B1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0610-7421-47C0-A539-A8FC73E8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2F457-0EC3-428B-83F3-03521B61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985E6-9134-4F59-97D3-743048A8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23E4-2E64-4E2D-8AC7-423CCE0D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1ED2-CFF4-4F86-BFE3-0409CD51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E0CF-3768-4739-A882-ABEA1C23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1B842-3E14-4117-B788-B735BA9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8EFB-6BBB-4B75-870E-AD74C71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6831C-741F-416A-A642-934C0B0B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EE2A1-0A7B-4438-B6D7-98E4AD0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B38-00F7-4F20-B6C3-EB2FE5FF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0AC5-438E-4829-B538-0559FFE2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6FC7-0827-4FCA-A945-FC129D71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46FC3-BDC5-47AB-82A4-DFFD581D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F3479-F1E7-433F-8DAC-A1DDB55F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3C637-B147-488F-82DE-E7603632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EE764-5455-47D7-A468-E049287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64F8F-DBC5-487F-B20A-F4A80CF3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58F45-AE83-43CC-B45B-9B273F0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27641-6918-4383-AD0B-B507EC82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0ED50-99FE-44C1-ACF2-41E7F43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FD4-2BFF-48B1-920F-961CF9C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92B79-8DC1-4AE2-8E16-78BF580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D5FFB-71DA-4DD7-BFFF-63A752E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77C4-6D1B-4243-9D47-CAA1162D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F2692-5E01-4EDC-9562-4C3E54E0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05FEB-D928-47D7-8760-FFC842E6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C674-3586-4B44-BDAB-876B674D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44CF2-34A1-4FC9-8CD7-D8690FFF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97019-8248-48D3-8719-2F55A2CE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BA086-F258-4044-991E-D2B53E3D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51471-8402-45C6-90DB-B17ECC5B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7DD-D1BD-47B3-8893-A5E586D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3A19-C5B6-46E0-995E-91EDF913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427F6-9264-4BFF-833C-B9DC0759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28978-7AD3-4511-A84D-A04F58B7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5FA53-24F7-493E-8365-8377BDE2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C8671-C275-41CF-9BA3-492D494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83BD7-3D01-4836-8D52-D6CD23A5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B536C-5E24-44C3-BB1E-BC7944BB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64C32-2933-43CD-A9BE-D43EC665F1F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55C05-F918-4CF6-B64B-00AED92539D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CE97D-1A36-4358-B426-8E7276B84F6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4209D-1CA0-4D47-A204-5945E05C3A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5DED5-300E-46CA-9FC4-75A812DF5ED5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19BEA-BC31-451C-B6B9-86E279CC3D5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8C605-8BEC-4E41-8BAF-625412B856D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A38B1-1886-428F-9B16-5C92B17DBEE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E90B0-C48A-4791-A1CC-BBA210A827E6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7513E-8E02-4BF7-953F-9682E1F2A33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130E0-9629-4EB7-BA5B-8DBA74ABF01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DB303-F829-417D-BDC6-863038DAFE3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77879-AEDE-4098-80D7-EF8E4F865106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04AE1-9D6A-42C1-A937-FABFBB23029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D3876-7C7C-4E27-A76E-E179C2C2592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D7016-79C9-4C8C-AB64-10D23C20609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elebrations!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Mr. Rus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lli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your favorite holiday celebra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do you celebrate this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3 reasons this holiday is special to you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-15 lines/ skip li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your favorite holiday/ how you celebr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reasons this holiday is special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are we learning tod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b8cd"/>
                </a:solidFill>
                <a:latin typeface="Gill Sans MT"/>
              </a:rPr>
              <a:t>What are we doing toda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b8cd"/>
                </a:solidFill>
                <a:latin typeface="Gill Sans MT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r favorite holi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cuss your holiday/ reasons it is speci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 Chapter 1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cuss Sierra Leone’s holi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llin’s Sierra Leo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nn Diagram-US/ Sierra Leo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how people of different cultures have different viewpoints/ similar viewpoi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iscuss: Your Holiday Celebr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your favorite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do you celebrate this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3 reasons this holiday is special to you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a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ges 69-72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Sierra Leone’s Celebration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hapter 10- pages 72 and 73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Sierra Leone’s holiday celebra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does Sierra Leone celebrate this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3 reasons this holiday is special to the people of Sierra Leon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-15 lines/ skip li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holiday celebration- write down p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reasons this celebration is special to Ishmael Bea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eleb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aring US with Sierra Leon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 A Venn Diagram on your pap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differences/ 3 similarities- Use Chapter 1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2222640" y="3503520"/>
            <a:ext cx="34542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7:37:08Z</dcterms:created>
  <dc:creator>Craig Rush</dc:creator>
  <dc:description/>
  <dc:language>en-US</dc:language>
  <cp:lastModifiedBy>Craig Rush</cp:lastModifiedBy>
  <dcterms:modified xsi:type="dcterms:W3CDTF">2011-01-23T18:03:42Z</dcterms:modified>
  <cp:revision>2</cp:revision>
  <dc:subject/>
  <dc:title>Celebrations!</dc:title>
</cp:coreProperties>
</file>